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C74-346B-4D24-9CFE-BFCB85DF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6F3-F113-4618-A4F4-686C2E52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341-98F5-4B9F-9D91-26498465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9EC-FC75-4A50-AE97-B99814D3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5D7-D1A9-42A3-BE7E-A59E578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6B6-4DE6-4DDB-9D9C-957F57B5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D7A-D9F2-47AB-801B-5DFD7B7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C58-B29A-4E8F-ACA9-CEF68AC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20B-6BEF-47BB-9FAD-53E26DD5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246-18EA-4AEC-B5AA-E401AF26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71A-89BC-48A7-8578-CD113AE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0AD-9FD7-4730-805F-23DEDCC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7C29-696C-4107-AD5A-5F5F31A7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4 Roles Reading Framework</a:t>
            </a:r>
            <a:br>
              <a:rPr sz="60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literacy and reading development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lping with the 4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with you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32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that are here – the big pictur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ICT Office</cp:lastModifiedBy>
  <dcterms:modified xsi:type="dcterms:W3CDTF">2007-08-30T06:07:12Z</dcterms:modified>
  <cp:revision>22</cp:revision>
  <dc:subject/>
  <dc:title>The 4 Roles Of Reading</dc:title>
</cp:coreProperties>
</file>