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580-340D-4A72-90FB-DC3005A9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FDF-FF55-474D-A7C4-AF0DDFA4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F57-AC4C-440C-BDAE-582FAE93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AF3-4A9E-47D1-83A8-1DD67EDB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C7B-E4AD-436D-8084-F5DCE37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A63-D7EB-4F47-8DA4-318916F6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964-42D1-4542-88B4-021197C3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F8B-3BD5-4D64-A755-A42B8C4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17F-4EF5-4EB8-AA14-6F834460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494-778B-49F6-AB10-F590278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E22-AAC7-4A20-A3C5-1B97C38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855-BCD2-44D4-AEC4-C64AA32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0B76-9209-4A54-992D-4D3FF3FF1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4 Roles Reading Framework</a:t>
            </a:r>
            <a:br>
              <a:rPr sz="60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 literacy and reading development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lping with the 4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with you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32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that are here – the big pictur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ICT Office</cp:lastModifiedBy>
  <dcterms:modified xsi:type="dcterms:W3CDTF">2007-08-30T06:07:12Z</dcterms:modified>
  <cp:revision>22</cp:revision>
  <dc:subject/>
  <dc:title>The 4 Roles Of Reading</dc:title>
</cp:coreProperties>
</file>