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913-1F44-4BD6-82B8-5966CBB8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4AD-7C7A-4CE0-841D-3A775016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825-B295-4554-AD69-C7964D62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2AE-0463-4AC0-B679-5484D8C8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8A0-22CB-4C5E-BB6C-21923DDA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6DC-9FD8-4808-8E75-CE8C1090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82A-81CB-47DA-B7C5-6F4594DD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229-19D0-4DDF-AA6B-6FFAD2BC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BEB-DA7E-4849-BF0A-AA13E48A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95E-6DE4-4424-9240-8A80622C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1CB-63C0-4712-BB1E-F43CBB52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DD6-BC53-46DA-8C1A-9A14E6B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E2CF-4A7E-4277-A92B-20BF15448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yread.org/how.htm#empower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e 4 Roles Reading Framework</a:t>
            </a:r>
            <a:br>
              <a:rPr sz="60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 literacy and reading development in the Middle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lping with the 4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 with your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lk about what you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</a:t>
            </a:r>
            <a:r>
              <a:rPr b="1" lang="en-US" sz="3200" spc="-1" strike="noStrike">
                <a:solidFill>
                  <a:srgbClr val="ffff00"/>
                </a:solidFill>
                <a:latin typeface="Goudy Stout"/>
              </a:rPr>
              <a:t>fa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questions about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 frame work i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ommon term of referenc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s instruction in the classroom that is not subject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not a teaching strateg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Decodes the codes and conventions of written, spoken and visual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word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phras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termin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that are difficult or vital to the understanding (breaking the code) of a particular piec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reates images using the text as it is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e purposes of different written, spoken and visual texts for different cultural and soci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Transforms the text into another form – poetry, script, illustration, diagram,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nvestigates the concepts that are here – the big picture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omprehends (understands) written, spoken and visual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s own experiences and prior knowledge (it is about you, the r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ses knowledge of similar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how texts position readers, viewers and listeners (What is the author trying to achieve with this tex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has a position and a purpose as dictated by the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can influence a reader’s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at texts empower or disempower certai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strategies can be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operative learning has been a corners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perative Learning – Where heart meets mi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yread.org/how.htm#empow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w for an excellent cross curricular activity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eriment (think, pair, share – D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lebrate your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what didn’t g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mind yourself that this is excellent teac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do not have to do all the roles at the same time – when would you focus on just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ICT Office</cp:lastModifiedBy>
  <dcterms:modified xsi:type="dcterms:W3CDTF">2007-08-30T06:07:12Z</dcterms:modified>
  <cp:revision>22</cp:revision>
  <dc:subject/>
  <dc:title>The 4 Roles Of Reading</dc:title>
</cp:coreProperties>
</file>