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56D-6EF7-4D94-9B8F-1E9C2B2F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5B0-0B01-41A3-860F-47A35FBD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477-BCA3-4B17-AB4A-37CC6524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94C-95EC-4DE5-A475-6ED6286E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43D-C6CC-43A5-BF49-3CCA13EA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ACA-0DAC-4FC7-B6DD-DEE58BCB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CE5-4F1A-4732-B580-4AFDE28B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B2E-9392-4434-B121-086BCF07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46A-6A2B-4B7C-920F-F14E48C3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323-86AA-4A37-95E8-C5480FC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3DB-7F41-40C5-BE23-430D0166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F35-C000-44ED-89A8-AB05BF52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EC64-4540-4314-BA37-CEC7FDA0C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e 4 Roles Reading Framework</a:t>
            </a:r>
            <a:br>
              <a:rPr sz="60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 literacy and reading development in the Middl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lping with the 4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with your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32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mmon term of referen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Decodes the codes and conventions of written, spoken and visual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wo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phras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termin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that are difficult or vital to the understanding (breaking the code) of a particular piec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reates images using the text as it is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e purposes of different written, spoken and visual texts for different cultural and soc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Transforms the text into another form – poetry, script, illustration, diagram,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nvestigates the concepts that are here – the big picture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omprehends (understands) written, spoken and visual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ses knowledge of similar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how texts position readers, viewers and listeners (What is the author trying to achieve with this tex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has a position and a purpose as dictated by the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can influence a reader’s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at texts empower or disempower cert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ICT Office</cp:lastModifiedBy>
  <dcterms:modified xsi:type="dcterms:W3CDTF">2007-08-30T06:07:12Z</dcterms:modified>
  <cp:revision>22</cp:revision>
  <dc:subject/>
  <dc:title>The 4 Roles Of Reading</dc:title>
</cp:coreProperties>
</file>