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75D-AA89-499B-AED2-BC7F7F8E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135-26F7-4AA1-8B39-984D7B5C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B8E-E2A1-4C05-8F5F-690B27C0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539-EF54-46A4-931B-E356F463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02A-D54F-4B42-BA47-1994C1C9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567-3133-43CC-9161-288121D8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E41-68CA-42EE-99AA-098DF499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A71-51EE-474F-A8F2-10716EE3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CBA-7149-4BE5-8AE7-A5F85C5D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E9F-3EFA-4E26-8BA2-E6A798B6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BC0-72D1-4E03-90D7-63A2290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640-6491-4B75-B557-5D74D502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5F75-1548-4910-A598-E7327BC2D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yread.org/how.htm#empowering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4 Roles Reading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amework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 literacy and reading developmen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Middle School</a:t>
            </a:r>
            <a:br>
              <a:rPr sz="2800"/>
            </a:br>
            <a:br>
              <a:rPr sz="28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四种阅读角色</a:t>
            </a:r>
            <a:br>
              <a:rPr sz="3600"/>
            </a:b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中学识字和阅读能力的培养框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lping with the 4 Roles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4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种角色的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ad with your chil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与你的孩子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a variety of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选择各种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lk about what you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讨论你所阅读的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 </a:t>
            </a:r>
            <a:r>
              <a:rPr b="1" lang="en-US" sz="2400" spc="-1" strike="noStrike">
                <a:solidFill>
                  <a:srgbClr val="ffff00"/>
                </a:solidFill>
                <a:latin typeface="Goudy Stout"/>
              </a:rPr>
              <a:t>fa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questions about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围绕该文章提</a:t>
            </a:r>
            <a:r>
              <a:rPr b="1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各种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are works you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分享你喜欢的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frame work is…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一个框架性工作是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common term of reference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一个具备以下作用的普遍性任务大纲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forms instruction in the classroom that is not subject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供没有具体科目限制的课堂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des a common language when dealing with reading across th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供处理跨课程阅读时的通用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is not a teaching strateg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它不是一种教学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ccessful readers use the 4 roles…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成功读者采用四种角色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de breake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密码破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使用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参与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Analys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分析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DE BREAKER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解密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Decodes the codes and conventions of written, spoken and visual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解开书面、口头和视觉文章的代码和常规用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th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word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,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phras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and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terminolog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that are difficult or vital to the understanding (breaking the code) of a particular piece of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对理解一段文字而言比较困难或关键的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rebuchet MS"/>
                <a:ea typeface="LF_Kai"/>
              </a:rPr>
              <a:t>词语、短语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和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rebuchet MS"/>
                <a:ea typeface="LF_Kai"/>
              </a:rPr>
              <a:t>术语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（解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使用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reates images using the text as it is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利用阅读的文章创建影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the purposes of different written, spoken and visual texts for different cultural and soc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有不同文化和社会功能的不同书面、口头和视觉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Transforms the text into another form – poetry, script, illustration, diagram,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将该文章转化成另一种形式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诗歌、脚本、图示、图表、符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nvestigates the concepts that are here – the big pictur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调查在文章中的概念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文章的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XT PARTICIPANT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参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omprehends (understands) written, spoken and visual tex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理解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了解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) 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书面、口头和视觉文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s own experiences and prior knowledge (it is about you, the rea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利用自己的经验和以前的知识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这是与读者有关的事情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Uses knowledge of similar tex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采用相似文章的指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XT ANALYST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分析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how texts position readers, viewers and listeners (What is the author trying to achieve with this tex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文章如何向读者、观众和听众定位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读者希望通过该文章达到什么样的目的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how text has a position and a purpose as dictated by the wr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文章的立场及作家表达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how text can influence a reader’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文章如何影响读者的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that texts empower or disempower certain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赋予或剥夺某些团体权力的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strategies can be used?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可采用什么样的策略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operative learning has been a corners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operative Learning – Where heart meets mi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合作性学习已成为里程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所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《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合作学习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——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心灵与思想的碰撞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》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yread.org/how.htm#emp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 for an excellent cross curricular activity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现在开始出色的跨课程活动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can you do?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你可做些什么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eriment (think, pair, share – 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试验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思考，结对子，分享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lebrate your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庆祝你的成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view what didn’t go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研究结果不理想的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mind yourself that this is excellent teach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告诉你自己这是一个出色的教育过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 do not have to do all the roles at the same time – when would you focus on just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你不一定同时完成所有的角色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你什么时候只侧重于一个角色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4:10:40Z</dcterms:created>
  <dc:creator>Tech Office</dc:creator>
  <dc:description/>
  <dc:language>en-US</dc:language>
  <cp:lastModifiedBy>j942806</cp:lastModifiedBy>
  <dcterms:modified xsi:type="dcterms:W3CDTF">2008-04-01T09:47:05Z</dcterms:modified>
  <cp:revision>25</cp:revision>
  <dc:subject/>
  <dc:title>The 4 Roles Of Reading</dc:title>
</cp:coreProperties>
</file>