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04F-6035-40DF-95E7-59883104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4EC-B4A7-4E01-B00D-396DCA35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D64-EA7B-4642-8B1D-3477BBDE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51F-D258-4B3B-9B06-0E14F86C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D6D-B70C-4941-B2CC-14C93538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FD0-C7CF-4C09-BB82-5DA71EFB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FD1-6CA2-4C2A-8DA4-43529517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4B1-F558-45CE-B5CE-AC5FA88B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9FD-CF72-4929-A2DB-2D8D1402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A6C-0F47-4530-BDA1-3CC4F61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A7A-C835-4FA9-B0BA-3B894DD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024-2F7B-48B2-9476-BF978C31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11D2-2536-4B4D-BA2A-3BC1968F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4 Roles Reading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amework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literacy and reading developme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iddle School</a:t>
            </a:r>
            <a:br>
              <a:rPr sz="2800"/>
            </a:br>
            <a:br>
              <a:rPr sz="28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四种阅读角色</a:t>
            </a:r>
            <a:br>
              <a:rPr sz="36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中学识字和阅读能力的培养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lping with the 4 Roles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4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种角色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d with your chil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与你的孩子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选择各种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讨论你所阅读的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24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围绕该文章提</a:t>
            </a:r>
            <a:r>
              <a:rPr b="1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各种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分享你喜欢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一个框架性工作是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term of referenc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一个具备以下作用的普遍性任务大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没有具体科目限制的课堂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处理跨课程阅读时的通用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它不是一种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成功读者采用四种角色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 break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密码破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DE BREAKER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解密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Decodes the codes and conventions of written, spoken and visual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解开书面、口头和视觉文章的代码和常规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word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phras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terminolog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that are difficult or vital to the understanding (breaking the code) of a particular piece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对理解一段文字而言比较困难或关键的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词语、短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和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术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（解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reates images using the text as it i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利用阅读的文章创建影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e purposes of different written, spoken and visual texts for different cultural and so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有不同文化和社会功能的不同书面、口头和视觉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Transforms the text into another form – poetry, script, illustration, diagram,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将该文章转化成另一种形式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诗歌、脚本、图示、图表、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nvestigates the concepts that are here – the big pictur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调查在文章中的概念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文章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PARTICIPANT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omprehends (understands) written, spoken and visual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 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书面、口头和视觉文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利用自己的经验和以前的知识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这是与读者有关的事情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Uses knowledge of similar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采用相似文章的指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how texts position readers, viewers and listeners (What is the author trying to achieve with this tex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文章如何向读者、观众和听众定位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读者希望通过该文章达到什么样的目的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has a position and a purpose as dictated by the wr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的立场及作家表达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can influence a reader’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如何影响读者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at texts empower or disempower certain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赋予或剥夺某些团体权力的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可采用什么样的策略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性学习已成为里程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所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《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学习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心灵与思想的碰撞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》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现在开始出色的跨课程活动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can you do?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你可做些什么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试验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思考，结对子，分享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庆祝你的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研究结果不理想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告诉你自己这是一个出色的教育过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不一定同时完成所有的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什么时候只侧重于一个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942806</cp:lastModifiedBy>
  <dcterms:modified xsi:type="dcterms:W3CDTF">2008-04-01T09:47:05Z</dcterms:modified>
  <cp:revision>25</cp:revision>
  <dc:subject/>
  <dc:title>The 4 Roles Of Reading</dc:title>
</cp:coreProperties>
</file>