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485-E064-46AD-9067-048E667E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766-5C72-4A8E-9303-4B9A3929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998-55B8-493B-8A0E-2F7490B9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84D-E265-4E9A-8157-CC20B109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4B09-C440-41B4-962A-63C59D16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3EF-B797-4860-9B49-6252C522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E18-24B9-418E-95F2-63890072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4A7-0A15-4D36-A051-F0860368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728E-159D-44E8-A2AA-F31BF3AF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097-8440-4ABF-8CF2-EDE50EEF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272-4F24-46A9-8338-A7382C5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B22-40A1-473F-B5BA-E978B38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546-5BBB-44CE-8B77-B787D06D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E57-D7EA-4FB9-8F80-C8B621DE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C08-4508-4A4A-9F83-995222C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CBE-5D52-46D5-BE96-39BA0B2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BDA-C3A7-42D6-B809-369ADCC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34E-7A4F-4376-8DA2-FB73C3B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F98-805D-4A5A-B2C4-7A5F157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D44-4C32-445E-9E43-32A8E02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8ED-659A-44BA-8971-5E58AA5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EF5-99F8-4901-990B-86EC6609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49B-7EDD-4EC6-96B3-B7520A12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rolesreadingframework.wikispaces.com/Questi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84368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4 Roles Fra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promoting critical thinking, inquiry and literacy across the curriculum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with the 4 Reading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regularly to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courage and support the asking of FA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hat we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teaching strategy 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way of organising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teaching and learning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se peopl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ial Research Fellow Dr Peter Freebody (University Of Syd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 P. David Pearson (Dean Of Graduate School of Education, Berkley, UC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ffrey Wilhelm (Professor of English Education, Boise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gave the 4 Roles Reading Framework resounding affirmations of a) the roles descriptions and b) as our common term of reading reference, adding tremendous value to our pedag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Adding with 4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ild on the many excellent activities and strategies currently used in ou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lights the importance of asking the most appropriate quest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uides the students in thei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s knowledgeable and purposeful discuss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languag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ross the curriculum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students access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importantly, it really enhances the students’ thinking, promoting more profound understanding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95280" y="2819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 how do we use the 4 Roles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rporate the excellent and of course  successful strategies and activities that we have already been using 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ratic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abulary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r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ependent Reading Log Ref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of course so many mor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4 Roles Framework is our common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present– the big picture ideas, the sym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from specific events in a text to a broader perspectiv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im</cp:lastModifiedBy>
  <dcterms:modified xsi:type="dcterms:W3CDTF">2009-10-18T12:36:33Z</dcterms:modified>
  <cp:revision>90</cp:revision>
  <dc:subject/>
  <dc:title>The 4 Roles Of Reading</dc:title>
</cp:coreProperties>
</file>