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F1E0-07D8-4E50-BD70-53C25CB4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23B-5D26-45F6-8AAB-B1CC6A9F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C5D-4BDD-466A-92DA-B940047E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3DC-5BB6-4545-8BA4-45BA6EF6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0937-3CD7-4184-AE7A-AA1D34D6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135-5984-4D32-A442-8EF8ED2C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6FF-FABA-41D0-8290-FDB2C948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BB9E-EAD5-429F-B3E5-EF000DEF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1E54-3876-4F2C-87D7-86E5AE67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147-B792-4F3A-A152-73D1046F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DA7-223A-476C-9354-42130339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E2E-E87D-42A1-B470-E1C5C2D4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FD6-BEF4-4DA3-B5B4-9FF6B4B8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0B8-6789-4A6F-9441-24E76A0C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03B-07BF-4504-A300-CB6889B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B20-5E13-4991-9F5B-408E3D1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602-86B3-4EBD-AED2-6440A4D3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495-712E-45CC-AEE0-CAB87A6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784-A938-4B4F-8408-03EB1C2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CC5-9F41-4CF1-AB3B-4AFBCB7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437-0969-46DA-B9E6-6C70ED9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DF1-DA9E-40BB-BE7A-E4D1BB5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AAE-A487-472E-99C4-8DC14F3D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rolesreadingframework.wikispaces.com/Question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84368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4 Roles Fra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promoting critical thinking, inquiry and literacy across the curriculum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with the 4 Reading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regularly to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courage and support the asking of FA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hat we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teaching strategy 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way of organising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teaching and learning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se peopl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ial Research Fellow Dr Peter Freebody (University Of Sydn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fessor P. David Pearson (Dean Of Graduate School of Education, Berkley, UC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ffrey Wilhelm (Professor of English Education, Boise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gave the 4 Roles Reading Framework resounding affirmations of a) the roles descriptions and b) as our common term of reading reference, adding tremendous value to our pedag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Adding with 4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ild on the many excellent activities and strategies currently used in ou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lights the importance of asking the most appropriate quest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uides the students in thei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motes knowledgeable and purposeful discussion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common languag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ross the curriculum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students access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importantly, it really enhances the students’ thinking, promoting more profound understanding (Learning 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95280" y="2819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 how do we use the 4 Roles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rporate the excellent and of course  successful strategies and activities that we have already been using e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ratic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cabulary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erar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ependent Reading Log Ref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are of course so many more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4 Roles Framework is our common terms of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present– the big picture ideas, the sym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from specific events in a text to a broader perspectiv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Jim</cp:lastModifiedBy>
  <dcterms:modified xsi:type="dcterms:W3CDTF">2009-10-18T12:36:33Z</dcterms:modified>
  <cp:revision>90</cp:revision>
  <dc:subject/>
  <dc:title>The 4 Roles Of Reading</dc:title>
</cp:coreProperties>
</file>