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7EAF-3F26-4DC5-AAA1-F786BECB4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370E-A33E-4383-8F77-FF3B01A8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A716-3285-40D2-8614-9745C23F6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D037-E00A-4F85-8F21-E0E3C577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F82E-B5E3-4C0C-9CE3-513AAD6E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BB8-9B80-4E02-8ED7-AC812C87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EEB6-0573-46A0-B156-8DBFACFC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C954-FEFC-48BD-A793-0C46D869B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D169-91D5-41A3-87AD-CD41015F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DF6-1432-421B-BDE3-B34BA1116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D0A-5C7E-46B9-88F5-EF87A694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8E1-5CE7-4906-A41D-0E0A3CFA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D21-4150-4157-BB2A-9D661AE2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2EC-D623-4986-ACCE-D4B47077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185-B68D-447F-851A-0E1E985E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78C-501D-419A-8ED4-15299EB1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E42-1383-4370-8128-DF8B5B0E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EBC-39C5-4247-9B0C-D888F6DE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23D-DCD6-4FE1-BFC9-7897C6F0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B8C-2F5B-4460-A42A-F89F032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D6F-3ABC-42AD-88FD-14C255D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EB1-DB1A-4E9D-8210-B799AEC3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B646-B9E4-4DE0-B111-1D1DAF1A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4rolesreadingframework.wikispaces.com/Question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84368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4 Roles Framewor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promoting critical thinking, inquiry and literacy across the curriculum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with the 4 Reading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regularly to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courage and support the asking of FA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hat we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teaching strategy 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way of organising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teaching and learning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se peopl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fessorial Research Fellow Dr Peter Freebody (University Of Sydn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fessor P. David Pearson (Dean Of Graduate School of Education, Berkley, UC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ffrey Wilhelm (Professor of English Education, Boise 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gave the 4 Roles Reading Framework resounding affirmations of a) the roles descriptions and b) as our common term of reading reference, adding tremendous value to our pedag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Adding with 4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ild on the many excellent activities and strategies currently used in our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lights the importance of asking the most appropriate question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uides the students in thei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tes knowledgeable and purposeful discussion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languag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cross the curriculum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students access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 importantly, it really enhances the students’ thinking, promoting more profound understanding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295280" y="28195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 how do we use the 4 Roles Fram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orporate the excellent and of course  successful strategies and activities that we have already been using e.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ratic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cabulary building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erar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ependent Reading Log Ref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na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are of course so many more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4 Roles Framework is our common terms of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present– the big picture ideas, the symbo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from specific events in a text to a broader perspectiv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im</cp:lastModifiedBy>
  <dcterms:modified xsi:type="dcterms:W3CDTF">2009-10-18T12:36:33Z</dcterms:modified>
  <cp:revision>90</cp:revision>
  <dc:subject/>
  <dc:title>The 4 Roles Of Reading</dc:title>
</cp:coreProperties>
</file>