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098B-97ED-4F15-95B1-75211781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489-D9B6-4765-A119-8903AD7A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279-75F7-4E4A-A2CB-DE08F99D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20DE-B8B4-484C-A5D1-20533A7B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21E5-00C9-4B31-B05A-137EC869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F2B6-5674-4F11-B575-14E40D60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3B5-3CC4-40B4-B156-59BAA934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89E-D09A-421E-A2EB-58137A92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FFC-9FFB-44E9-9D98-9E841888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DCBB-D710-4734-94E5-74F1283D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FC6-9607-4060-B50A-09064055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882-7FE5-41C0-8D5C-DD26049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22B-D0A8-4530-84A1-5030035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C6A-D583-4CFE-8C0D-EA26FA2A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A3C-775A-4856-9207-95309F3F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667-331E-4E1B-8039-21C03E91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F27-B9DA-482A-95C1-87F614D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614-9A05-4E64-B6A8-31FB25A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19-AF5D-425E-874F-5F93A00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59A-AF4F-4FCB-A606-55ECDB0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A85-C41B-4C77-9AE9-12EF0C8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5CE-3EEE-499F-AC9E-D726D9E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FBB-A44A-4BFE-8145-39FD06AC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rolesreadingframework.wikispaces.com/Questi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84368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4 Roles Fra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promoting critical thinking, inquiry and literacy across the curriculum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with the 4 Reading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regularly to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courage and support the asking of FA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hat we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teaching strategy 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way of organising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teaching and learning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se peopl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ial Research Fellow Dr Peter Freebody (University Of Syd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 P. David Pearson (Dean Of Graduate School of Education, Berkley, UC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ffrey Wilhelm (Professor of English Education, Boise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gave the 4 Roles Reading Framework resounding affirmations of a) the roles descriptions and b) as our common term of reading reference, adding tremendous value to our pedag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Adding with 4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ild on the many excellent activities and strategies currently used in ou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lights the importance of asking the most appropriate quest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uides the students in thei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s knowledgeable and purposeful discuss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languag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ross the curriculum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students access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importantly, it really enhances the students’ thinking, promoting more profound understanding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95280" y="2819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 how do we use the 4 Roles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rporate the excellent and of course  successful strategies and activities that we have already been using 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ratic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abulary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r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ependent Reading Log Ref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of course so many mor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4 Roles Framework is our common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present– the big picture ideas, the sym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from specific events in a text to a broader perspectiv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im</cp:lastModifiedBy>
  <dcterms:modified xsi:type="dcterms:W3CDTF">2009-10-18T12:36:33Z</dcterms:modified>
  <cp:revision>90</cp:revision>
  <dc:subject/>
  <dc:title>The 4 Roles Of Reading</dc:title>
</cp:coreProperties>
</file>