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7D1-D734-47F9-9DA1-B6DD8B36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7D6-3B92-4ED7-BC10-71A9AF45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BA9-D002-4C17-93C4-219C6D52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8B7-0423-427B-AD5E-FF8BD876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54B-8DCE-4DF3-9DE0-E5E5DDB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E4B-3FC8-47E6-B6A6-3FDBFF33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370-6961-4468-BB8B-E00C5A8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CA6-5884-4C4E-9351-53EA219E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A2C-07E5-4E40-93E5-8CB41F66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7DD-1A03-4CB4-B81E-8CA6C9BF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802-A873-4345-8663-7C0BDF1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6DE-EDA2-41C9-B420-553CDC42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4414-277D-4811-9635-D9967A19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yread.org/how.htm#empower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e 4 Roles Reading Framework</a:t>
            </a:r>
            <a:br>
              <a:rPr sz="60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literacy and reading development in the Middle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lping with the 4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 with you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oose a variety of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lk about what you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</a:t>
            </a:r>
            <a:r>
              <a:rPr b="1" lang="en-US" sz="3200" spc="-1" strike="noStrike">
                <a:solidFill>
                  <a:srgbClr val="ffff00"/>
                </a:solidFill>
                <a:latin typeface="Goudy Stout"/>
              </a:rPr>
              <a:t>fa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stions about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 works you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 frame work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mmon term of referen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s instruction in the classroom that is not subject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a common language when dealing with read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not a teaching strateg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ccessful readers use the 4 rol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DE BR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Decodes the codes and conventions of written, spoken and visual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word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phras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termin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 that are difficult or vital to the understanding (breaking the code) of a particular piec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XT U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reates images using the text as it is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e purposes of different written, spoken and visual texts for different cultural and soc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Transforms the text into another form – poetry, script, illustration, diagram,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nvestigates the concepts that are here – the big pictur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PARTICIP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Comprehends (understands) written, spoken and visual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s own experiences and prior knowledge (it is about you, 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ses knowledge of similar tex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XT ANALY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how texts position readers, viewers and listeners (What is the author trying to achieve with this tex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has a position and a purpose as dictated by the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Identifies how text can influence a reader’s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SimSun"/>
              </a:rPr>
              <a:t>Understands that texts empower or disempower certai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strategies can b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operative learning has been a corner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nett, Rolheiser, Stev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perative Learning – Where heart meets mi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yread.org/how.htm#empow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w for an excellent cross curricular activity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 (think, pair, share – D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lebra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what didn’t g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ind yourself that this is excellent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do not have to do all the roles at the same time – when would you focus on just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4:10:40Z</dcterms:created>
  <dc:creator>Tech Office</dc:creator>
  <dc:description/>
  <dc:language>en-US</dc:language>
  <cp:lastModifiedBy>ICT Office</cp:lastModifiedBy>
  <dcterms:modified xsi:type="dcterms:W3CDTF">2007-08-30T06:07:12Z</dcterms:modified>
  <cp:revision>22</cp:revision>
  <dc:subject/>
  <dc:title>The 4 Roles Of Reading</dc:title>
</cp:coreProperties>
</file>