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CF2-3E3A-4F89-966B-CBDCF9EA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049-3A5F-4478-8845-EA94483F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589-7099-4108-883E-E4E2F3BA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0CD-0329-4A0D-B182-AC3F251C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A61-6CD0-4269-B136-3CD5A10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AC4-4161-4A5B-BC7E-62DB66B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F87-B8B2-438C-B00A-CB0C41C4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72E-72A9-430A-BD94-133067FE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AC0-310F-4D37-9E90-171E798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E56-E5BF-4827-BFCF-60453A2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770-B35E-41D7-9D39-2BE4413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C96-1F47-4399-B296-CE81B90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93DE-23D1-4F09-A1B0-DD5FC6C2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4 Roles Reading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ame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literacy and reading developme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iddle School</a:t>
            </a:r>
            <a:br>
              <a:rPr sz="2800"/>
            </a:br>
            <a:br>
              <a:rPr sz="28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四种阅读角色</a:t>
            </a:r>
            <a:br>
              <a:rPr sz="36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中学识字和阅读能力的培养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lping with the 4 Roles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种角色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 with your chil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与你的孩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选择各种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讨论你所阅读的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24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围绕该文章提</a:t>
            </a:r>
            <a:r>
              <a:rPr b="1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各种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分享你喜欢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一个框架性工作是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term of refere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一个具备以下作用的普遍性任务大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没有具体科目限制的课堂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供处理跨课程阅读时的通用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它不是一种教学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成功读者采用四种角色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break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密码破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DE BREAKER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解密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Decodes the codes and conventions of written, spoken and visua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解开书面、口头和视觉文章的代码和常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word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phras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宋体"/>
              </a:rPr>
              <a:t>terminolog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that are difficult or vital to the understanding (breaking the code) of a particular piece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对理解一段文字而言比较困难或关键的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词语、短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和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rebuchet MS"/>
                <a:ea typeface="LF_Kai"/>
              </a:rPr>
              <a:t>术语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（解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使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reates images using the text as it i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利用阅读的文章创建影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e purposes of different written, spoken and visual texts for different cultural and so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有不同文化和社会功能的不同书面、口头和视觉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Transforms the text into another form – poetry, script, illustration, diagram,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将该文章转化成另一种形式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诗歌、脚本、图示、图表、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vestigates the concepts that are here – the big pictu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调查在文章中的概念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文章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PARTICIPANT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参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omprehends (understands) written, spoken and visual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了解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 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书面、口头和视觉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利用自己的经验和以前的知识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这是与读者有关的事情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Uses knowledge of similar tex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rebuchet MS"/>
                <a:ea typeface="LF_Kai"/>
              </a:rPr>
              <a:t>采用相似文章的指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XT ANALY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文章分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how texts position readers, viewers and listeners (What is the author trying to achieve with this tex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文章如何向读者、观众和听众定位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读者希望通过该文章达到什么样的目的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has a position and a purpose as dictated by the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的立场及作家表达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dentifies how text can influence a reader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识别文章如何影响读者的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Understands that texts empower or disempower certain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了解赋予或剥夺某些团体权力的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可采用什么样的策略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性学习已成为里程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所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《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合作学习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——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心灵与思想的碰撞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》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现在开始出色的跨课程活动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can you do?  </a:t>
            </a:r>
            <a:r>
              <a:rPr b="0" lang="zh-CN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你可做些什么</a:t>
            </a: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试验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思考，结对子，分享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庆祝你的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研究结果不理想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告诉你自己这是一个出色的教育过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	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不一定同时完成所有的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 – </a:t>
            </a:r>
            <a:r>
              <a:rPr b="0" lang="zh-CN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你什么时候只侧重于一个角色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LF_Ka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942806</cp:lastModifiedBy>
  <dcterms:modified xsi:type="dcterms:W3CDTF">2008-04-01T09:47:05Z</dcterms:modified>
  <cp:revision>25</cp:revision>
  <dc:subject/>
  <dc:title>The 4 Roles Of Reading</dc:title>
</cp:coreProperties>
</file>