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3CB-316E-47D1-9E8B-E0F79A60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7EA-CD98-43F6-B39E-A50A0C2F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F56-F9AC-4F5B-BC0D-978E5CAA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57D-B71C-4527-ABD3-AE4F7FD1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305-982F-4034-BF1C-AC2DD8DA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53A-AA9B-460F-9499-519C0AA1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197-5052-44FD-812B-27EC250E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702-D53E-4DB2-9CB2-AEB67A61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EE5-F9F3-497D-BBD3-C6A04119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17A-7E9D-4A17-A9CA-39D0E5D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261-1736-422B-B029-DA51CF82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A29-A3C3-4A59-9626-B02EE33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2A71-E770-4729-B631-8F1168FE3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READING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prox.5 MINUTES PER 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PH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ECOR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ST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OMORROW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3:15:06Z</dcterms:created>
  <dc:creator>ICT Office</dc:creator>
  <dc:description/>
  <dc:language>en-US</dc:language>
  <cp:lastModifiedBy>ICT Office</cp:lastModifiedBy>
  <dcterms:modified xsi:type="dcterms:W3CDTF">2008-01-28T05:40:13Z</dcterms:modified>
  <cp:revision>3</cp:revision>
  <dc:subject/>
  <dc:title>COOPERATIVE READING PHASES</dc:title>
</cp:coreProperties>
</file>