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94A-C6FC-458F-AA1D-87A6F70F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A91-571A-4F46-9D3F-90A37DC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59B-640A-4195-9872-F0D39A1D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761-C288-4D62-9DD7-9E94027E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923-81F3-4C98-BE9A-B8EA0372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966-64FA-463B-9CFD-AFE79FB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E9F-F5B3-4A07-9068-478D2DB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762-3873-47BD-8C49-0FEEEF6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18A-E0FE-4C34-AAEA-BDEE1619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DB8-D6AD-4BF5-B1EE-FC8EA2C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8B8-9BD2-4A7C-BB7A-37B0D49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A06-2AB3-484D-9F19-E2DFD3A1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D72E-4FAF-44C9-9931-E96F7723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READING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rox.5 MINUTES PER 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CO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ST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MORROW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15:06Z</dcterms:created>
  <dc:creator>ICT Office</dc:creator>
  <dc:description/>
  <dc:language>en-US</dc:language>
  <cp:lastModifiedBy>ICT Office</cp:lastModifiedBy>
  <dcterms:modified xsi:type="dcterms:W3CDTF">2008-01-28T05:40:13Z</dcterms:modified>
  <cp:revision>3</cp:revision>
  <dc:subject/>
  <dc:title>COOPERATIVE READING PHASES</dc:title>
</cp:coreProperties>
</file>