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DED-05E3-4A9A-86CE-BAA7171C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FD8-F03F-46EA-85CF-2D793FE7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FE5-B6B7-455D-84B6-8FD21783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B75-C714-43AD-9052-7338011E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EA6-14B3-4C68-A93B-7390ED37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7D6-A833-4A2A-BBCA-27F432A0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46D-C067-4773-82EB-283BF996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510-DA65-4B98-9F8E-19A1CC9D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550-5B1A-4684-AE91-B815E3B4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F87-6487-494C-BD46-0A706265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08E-F9EA-4FAD-BF89-F69C7C6F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FF9-CB3E-4643-8E6B-1BEB02EB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4CFB-AD67-4ABF-A4D8-EE2BB54FB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READING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848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prox.5 MINUTES PER 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ECOR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ST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OMORROW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3:15:06Z</dcterms:created>
  <dc:creator>ICT Office</dc:creator>
  <dc:description/>
  <dc:language>en-US</dc:language>
  <cp:lastModifiedBy>ICT Office</cp:lastModifiedBy>
  <dcterms:modified xsi:type="dcterms:W3CDTF">2008-01-28T05:40:13Z</dcterms:modified>
  <cp:revision>3</cp:revision>
  <dc:subject/>
  <dc:title>COOPERATIVE READING PHASES</dc:title>
</cp:coreProperties>
</file>