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151-D668-43A7-B519-1EB09522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FDD-E99E-4F99-B476-0B14AF95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0B9-D6A9-4210-8921-E4C518CF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A8D-9520-4925-8FD7-1253BC26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B68-8C30-4496-8FA0-B532C443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181-717A-4841-835C-D6E7CFE7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D5A-7470-4C1E-9549-1F92FADB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650-0C7F-468E-96B2-2E669A39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6F8-BC05-4A3D-A9DE-450994DE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A0E-C093-4C83-B056-85F308F8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CB7-4E29-4B6A-87AD-75E47F44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96E-E8D6-4194-A316-969B0941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FEA2-F5D5-4CC0-BA9C-81E459439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READING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848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prox.5 MINUTES PER 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ECOR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ST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OMORROW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3:15:06Z</dcterms:created>
  <dc:creator>ICT Office</dc:creator>
  <dc:description/>
  <dc:language>en-US</dc:language>
  <cp:lastModifiedBy>ICT Office</cp:lastModifiedBy>
  <dcterms:modified xsi:type="dcterms:W3CDTF">2008-01-28T05:40:13Z</dcterms:modified>
  <cp:revision>3</cp:revision>
  <dc:subject/>
  <dc:title>COOPERATIVE READING PHASES</dc:title>
</cp:coreProperties>
</file>