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83E-AACA-4D62-941D-0AE3CB0C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BD6-D30F-4A4E-BAC6-A3331BA5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5F4-E087-4629-9F97-908ECD70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C99-7EED-4057-8E41-A4C32FAB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E73-E0F9-4F8E-92DA-E3E92D9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166-9E5F-482A-AB45-6CFCBEE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58B-86A0-4840-8C10-1187F118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B17-76D1-4AB3-A6C2-5051465E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391-3A0D-4718-8A64-2768C856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20F-D459-4ADD-9F01-55C5A69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108-9EBA-4F65-8218-C0CBDE2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B45-E806-4F0F-A676-AC78ED9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3D16-8D2E-4FC2-8657-2574E26BC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READING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rox.5 MINUTES PER 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COR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ST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OMORROW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3:15:06Z</dcterms:created>
  <dc:creator>ICT Office</dc:creator>
  <dc:description/>
  <dc:language>en-US</dc:language>
  <cp:lastModifiedBy>ICT Office</cp:lastModifiedBy>
  <dcterms:modified xsi:type="dcterms:W3CDTF">2008-01-28T05:40:13Z</dcterms:modified>
  <cp:revision>3</cp:revision>
  <dc:subject/>
  <dc:title>COOPERATIVE READING PHASES</dc:title>
</cp:coreProperties>
</file>